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CB71-E7F2-4C45-B4EF-C93FD0848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EBF9-8041-4661-8B09-AE8C17C3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F3108-A768-4140-8AF3-32C49DEC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A8F8D-42AC-4B89-9FF1-120A6B7D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76F5A6-61F3-4A76-A4AC-2B6BFC87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A2A16-400C-49D6-BEA1-9D4EF916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859B8-8F7A-4AAA-A31E-49C492AF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4EA37-9756-41C0-A657-670019E1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80A5B-B170-48F2-A5D3-F43FEC3A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9C2403-4EB1-45EB-9995-587D0F536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29D79-9C2C-4536-AC4A-5BD52721B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655610-B18D-49A9-B470-AF2AFA2B6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1B1A-AB51-433E-9BFC-B327A3C06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1AA92-64AD-4553-A72E-05B33B2A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A7B3AC-CC45-4216-BF7A-36856573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645692-7EA8-40D7-B5BD-5BF9672E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F9DE92-D61C-4D5C-A868-E61B9C5E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5ABC98-CB28-4D7B-86E0-7210C288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F9356A-FAE1-433B-818F-F0F17229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B7947-A79C-46C7-BF3C-CBDAAAD9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34F54C-8CB8-462F-A54A-0CC6C2E5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C7E550-A257-4FE8-9542-D119B76F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3AF60-36FE-40C2-B6FF-84C1FDD81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C66E-6619-4252-9824-56220E721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368183-4143-4C82-94B3-EC0236426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3ED14-940D-4FD0-B211-B80C4863C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A1313-1916-41CE-B661-1677949A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914DE-254D-4DAE-949A-016642E6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BA5DA-311E-48C0-B9CB-A280D8E9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3726A-FAFF-4384-B418-AB06892B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D977E-CFAE-45BF-97A3-293B8F7E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48FCE-D85A-421D-B241-4FC41067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E6C98-5C47-4878-892B-480B5406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323CC-4D0A-42E4-A502-102645AD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20C8-3053-4D0E-B245-AAFE1CBAD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AE08B-9CD9-4835-9EAF-C74BF9BE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A864F-37A6-4D94-802D-783C43552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C88F9-B968-48B4-8304-59546402A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DF7D94-C7E2-453C-9D3C-6464AFB5D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D8DB13-0B5B-4FB3-9AF1-808C8CDA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77FE76-1C46-4AED-BA76-3E86A4EC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6558DE-0EA4-4E08-A308-42CFBEEC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6AF07-FAB8-4447-961F-01AE4128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E4A430-75C0-4901-BDB4-F51182CD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28417-DF34-4A41-B4D2-88B7180F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49E1-8DE1-474E-AC9B-6E715463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86AD00-3E86-4734-A965-176CEA14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C3D2A3-9982-41D7-B084-FD249022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973B5E-039F-44F6-BFC9-77FE008B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6E92F1-93AC-4B06-9C75-C53977BA5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03FD72-CC33-42C1-B536-5C331BCF0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153555-70DF-455C-933E-CD8A36111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22EA0B-F438-4BC7-91C6-2CE9D260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D347F8-CE82-4B57-A939-201D92AC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FF0672-61A6-4E41-9FD2-FA1EB163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F9F845-292F-4625-A4CB-42BC13DA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A44D-3566-4A4D-B70E-E90D3557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4A63AB-A75C-430E-8E23-71FADC9B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3B0E22-F6EA-4D8E-A95C-A8109852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5AF414-6CD2-4ABA-97E9-AC35CAFD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D08B28-584B-4AC7-AD9C-5E445806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309259-750F-4BA2-B8B0-B09018D3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BF0A70-93A3-4121-A565-D9699D961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F056D1-C902-4D8C-AD21-9934424E3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DCE534-231D-44F5-AEA6-5F78BDFC4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DA17A3-B290-4F50-AED6-432404AB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870B37-D217-457C-92E1-F3807459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9360-5625-4398-8FE3-C9B662F1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BC2A0A-A79F-4670-9B9C-28D66C3F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E88D7E-35C5-4CA5-B1BD-857CF6E9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1B3109-0D9F-41C2-8753-953A52B5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725560-AE83-4CA9-9280-F139166F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D1FCEC-6DDC-4399-B5A7-84574B3B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C374EC-8182-4E7A-B0E2-E63942ED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173659-B6B0-4CDF-BF74-8B7EBA95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FB125F-09E4-4601-9D83-83C982027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56FB56-A71B-4D08-89EF-35A8FC13A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9530D0-A9D9-4762-8814-22A5F1BF4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F71F-75A1-41CE-957E-65D63CD1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6C0294-63D1-4FAC-A4DA-667826B7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ADAD4B-0B3F-4564-914F-3C8C78BA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56F723-E36B-4A41-9BA0-3B258EE0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DDAD54-B6B2-43E4-A6F7-3DE4244A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643A52-162D-4B8B-9E39-F5D05B13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4FBF3D-9170-4FDD-9F9C-46D9F022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AC9090-E31D-4EC1-A6F2-42D05E63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527764-AD57-4275-ABD4-DAF70C67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685D0E-EA98-49DA-A5E3-A67D08FF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C994AF-9BA1-4EB1-987F-34790A8E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85F1-5224-4983-9C3E-92B37E8A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0CF8D1-B491-4222-B041-F3A2F4326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A1389F-C7F7-436B-9FD3-76D6DAC13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BC7F34-9FDC-443D-A6BD-F63EBE80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0C2E9E-D22C-449E-90C0-71A5BB36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9C9F98-E694-45FD-9066-4BBA16B4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058379-8294-42F3-A20C-011EDBEF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8EF44D-7765-4CF5-AA82-1D14B160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03F477-5FC4-494A-8999-8C01852A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BCB0FD-3540-4660-90AC-7F3A329A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2494AB-74F3-4A9A-B4CC-D4C2268B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1F02-D8CC-4C33-AA9C-DC497B5F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070AF6-88F1-4300-89BB-03AFEEF7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E0E322-819D-4E2C-B529-EEBFE19EA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A5DD4B-B353-4B53-9A26-DA90EC251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7A0AD3-AD5A-4598-B117-037969D3F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CAE08E-0907-48A6-8190-0F2A8478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37464A-1030-493E-A7FD-5CFDA488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FFC1D9-0181-4B79-AAF8-9D26E5C8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473D70-03F5-4F9E-859D-C7E52064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CC0064-70E9-46B2-881C-4AFFE60E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92560E-4C91-4261-BDCE-12EDB1AD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C6CA-C0B6-462B-8304-D123AC21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6B5E-493E-4A89-9866-D9E58E2D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A7FC38-1786-4CC1-BA81-604D441A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BD16AB-9E2E-49C5-964F-A9F5B75F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232345-8C5F-4B86-8C21-FC8D3009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DB154F-5EF1-47D3-9490-E706FEEB0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B3056F-BB3C-40D3-93AF-BE01D257E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F9A850-0B8E-4D91-B0D3-4AA3A4DEB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646CAE-CA11-4322-930A-6147000F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969CED-869E-4EAF-85A9-8D2085F0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37C602-EE96-4C03-9975-080D8EEA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58F81B-6437-4CAE-8613-30EF8437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24D1-1549-4157-AAD2-E8834A81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5AA418-462E-43DD-A589-5C7C208C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4FC126-4088-4117-8B53-20B221B6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834BB0-55EA-49E4-B378-F86A7ECA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389013-4B3C-4510-8C4A-1341E691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55643B-07DB-4C4E-91A3-1FF21B75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1DD095-5D19-4C61-AE16-FF0F8FB57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5DBCF9-7A09-4007-8262-7807791A6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629DF6-B975-4DFB-B3B2-A16C54C9E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3DAB3B-BBB5-4312-9E42-1808FE74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69F58B-CD3C-41EC-8DAC-099DD024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97F5-B36A-423A-84A2-963D222A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FC1149-6F64-4A49-884F-EE599D91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AC0EF6-83A8-4957-B11E-FC3956FE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677681-A8DF-4DA7-A114-5FCBD69D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F29AE0-B909-4318-95BA-200D5270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8E95F4-C11D-4F16-BE7D-81C1532E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A26596-BE08-47B6-B803-5B92877B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9C974E-7A2D-4DEB-9841-D1DBAD4D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BCC84E-0D4A-44EB-8D90-DB0CC3AC8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F7F7E1-8941-44AD-9A06-57D53EA46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54CF47-2BC0-4203-B8D5-B04AED9D4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E28B-4246-4B20-992B-F55D34445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813AB0-739E-4C52-AFE6-DDBC1DDD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DA5ED9-140B-4915-9F03-0DB7687B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EC3B34-A2F6-459D-9B51-2957D02D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2DAD17-FEE6-45F9-8D81-F7E33A0E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0F1BC6-45A9-434C-8479-AC8B93B2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EA181F-8A5B-4C71-908B-A7942B7C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6E4302-6DCD-401B-BDEA-452FE446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CF0145-F4C0-42D3-B501-901FDBF3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A68319-72AF-49C9-A63C-DA8EEB82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2461F3-EED4-4A5D-A7B7-675E7961C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AA1B-A6CE-496C-8C6C-10DBCE83A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5C0D23-4F69-43F3-B537-A1566909B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B4791B-3FB7-4057-B845-80CBC65E5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92990C-1CA5-452E-B35C-02EDD0B6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8FA365-FFA9-40E6-8F4C-391ED4C3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9AAB7F-7690-4E66-A492-BFE4B73E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E13F59-516B-4EBD-8F40-4643C623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497B77-A4D1-4933-BE89-35F3093A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67F7F4-76E9-4FBD-9F86-DA3B04CF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D4CFB1-EE21-46CB-BEC5-B8F9CEBE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1B5D02-8A1B-494F-8FA2-1BFC8AFF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D366E-69B3-4E30-9FC4-A5F61F877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99A743-403E-4696-9D6E-A5A8419C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0F6292-70F1-40FB-AC79-D93A463C0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CAD1F8-90AF-4B6E-BF7E-3D9530A17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131B3-0B8C-4357-A16A-D5F91710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E79B8-2C0B-4D20-B669-3817D848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C2941-4430-4910-9D2C-7BE344F7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5FDA3-D5B3-482C-B1A5-6B82B4F2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1269-6423-4288-8388-5CA64FF5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33809-FA1A-4870-BBA8-09F5DEF7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09240-5265-4889-B628-085E0D54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B110C-13BB-4CD7-8B2A-1E5430CF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B54AB-EC3A-4595-8754-06D698E6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20FE8-F3C5-470B-ACD1-2E8D2106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179FC-3811-4CF8-9E66-01F0D3842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EFB0F-FEF6-4CC0-B0A4-B93A85BC5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61FD5-3B54-48A6-945C-AD3D2EED2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BB811-D21E-40A7-82CC-BB6F6850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B8418-66B0-4B85-96D3-6027B41D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5FC5-BA8C-4E81-8AD7-F1E2364C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F2DF0-1F2F-4DA1-BF46-EE3D32A8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CA5A5-B92C-414D-9532-CDD9F3F8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CE33D-D609-4947-8D8C-928960CF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CDACE-95B1-43C7-BDBE-29D25760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A42F5-F360-4A81-A6F8-265811B2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28570-9DCB-4E35-AC49-6903C3E0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0A617-79C9-4F94-A5AA-E71E79B0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8A9D5-7D36-4E91-9792-6CBA8E0AC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F343E-C48E-4C6F-BC00-877F1D5C8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A3C63-29B6-4284-AF2D-1426C4429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543C-BD7B-49CF-B3A6-C4A52694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D910B-BF3A-4793-8299-943B4964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BECA6-6BB8-43A2-94F3-DC73B845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C989A-B305-49BF-8B89-4370A8D4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2555A-9E77-4721-BAE9-263BE30F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7C883-4A10-4A45-8B1B-5CB2C7EB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F91B5-0676-408C-8772-EBD4AEE0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15E78-1264-4073-AFD7-E5FF28B4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597F4-F588-4565-B033-2F6DA03C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35014-3B9D-4854-A3C9-3E46536A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38F54-3524-4DEA-A159-2EB30A39F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1798-92A7-40C1-8D48-6517E1A5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E0768-7894-4FCE-83E4-0407A2951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8BCB1-DE72-413A-B346-FC9A54A44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1C358-CC97-4360-B7A1-07D46D0F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9689D-A0BB-4660-89D8-C7CB3CCF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AABA9-6352-4CEA-BE77-39136D51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77CFB-E673-4CDF-B889-96FD9616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C6396-00E8-4AFF-8B3D-D3C4A824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92782-B8A6-49CA-8E98-B6685645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7FE32-BB5A-45A1-976E-C24F871B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AF23B-0A09-44B6-9AED-A62EEF13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F170-0444-48E1-9CE0-74D1577B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AFFDF-F675-48E1-BB55-A3901866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411E9-A20A-42B0-9345-E8811145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6DF2C-9ED7-48AA-BF92-8BC31DB6F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2C556-4A48-4C6B-AC09-13D959ED7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C292E-9F3A-432B-B7F7-B9515C5C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D9F9A-4026-4721-BB6C-A943DE86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E2008-22A2-478E-9287-4CB3BE81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41CDD-A6B6-4A1C-8570-732B1DAA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3A672-5A37-4511-9AB5-78A08B81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ABDBE-AC33-4F39-B198-1936F247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4F4A-25B5-4D82-BB58-484A7AA6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A0981-44D3-40C4-A8D2-AFE5168F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747BB-8CAE-4A45-BC9D-5AD45D70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1DFEC-A8FC-4F7D-A71A-C993DA94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2A856-EE84-46F4-9314-385D977C4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F5A12-99AC-4AFE-A89C-3EB06B50C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B023E-3160-4058-9B70-A0F9A5C9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8A588-1557-46B0-92C7-794C1AB0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39C42-0AF6-4670-9FE0-F162F220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7AAF5-DFBD-4780-8DA0-AC83D88D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AF1F6-F868-41D8-ADE3-DE3A8D15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8415-B956-4C45-BFA8-AF75E3DE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1FBA4-6934-4362-ADC0-8E5112A5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BEE74-AD25-4191-A457-8F2F7DFF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0847B-ED21-4277-A913-7DF30607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9527F-FE0A-42F2-B47E-EC6FEAA2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34261-2F7B-4454-A298-F2CDD040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6E2EB-EA30-4E00-AB3C-6200257AF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AECB9-F178-461A-A5E9-1EC7B66AB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E752D-B2C1-42A4-9513-4C0766F5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CA17E-25FC-452F-85C5-AC2CAE88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74B7B-8CF5-43D0-88EA-1AD492B8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8D1F-26D7-49F3-81EE-D3955F2DEA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CA97-FC06-4A45-869A-87468BCE71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1984-B2C5-4047-8759-3D63333ECC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0F9E-520B-4C96-B00F-882103295D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11DD-874F-46AA-BB03-4A7604FD18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4DE8-6C67-421E-AA94-6872057B10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5FEA-A31F-493A-A8D0-896ED05ABD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CD5A-6954-4B90-AA16-A39B18768A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64D5-D519-44D9-8503-4065B3FD05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DFB5-D602-4B33-AEEF-7D45F180B4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7C59-6166-4EEC-983D-2A7F5384BD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6665-593E-4135-8BC8-74CE3FFF5A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65CA-0AA5-43CC-94BF-556FA950FD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59C3-F3C2-47AC-AC5E-4F3A1E6B95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1A9F-EB3B-4DE0-8875-1147BC7165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39A9-859D-43FA-9072-C44397578B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EF92-BCD9-4521-836F-A4A3127A04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AA64-5057-4E6B-AF31-49D2D1D988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0FC5-ACAD-440B-AD6B-552E70F000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A16E-ABD9-4D83-AC4E-C0B8395855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93C3-06EC-4A02-AF63-E4C4932AC3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D856-EE64-4CD4-8AC0-B944AADA64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EBB9-B774-4DD8-8C8C-240BCA9045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FB94-B7B3-48BA-8E4D-13DF79602E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68B3-E95C-468E-821B-91ED0CD037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A1A7-2891-4480-8860-15E05D5345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2214-57DA-4E96-BC92-A0D9D2A2D2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A14E-C2E9-401C-BB37-5346F52777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B8B6-65EA-47B2-8D95-10BDDC1A70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552A-AA79-4A5D-8914-076C465E50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4B8F-307D-4E9B-8DF7-D8BDF2FC37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5719-AF32-46F6-ACD3-9CEB20932C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6ECA-6A92-477C-BFFF-20875D1E4A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76A0-8D5F-4F52-8853-2FEB2639A5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178E-5780-48CE-9189-509D787116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0183-32AB-4CA4-BFE6-D551F33670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81B3-67F0-4916-A090-1E9AB8B7F4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C427-BF4B-4658-8AC3-67FAC6C5A0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65D8-D1B1-4055-9C02-2FF53B8C25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8FB6-AA3C-4900-AFE3-1F3A901E87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295360" y="2976480"/>
            <a:ext cx="45532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71440" y="685800"/>
            <a:ext cx="8601120" cy="54864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7812000" y="3573360"/>
            <a:ext cx="1081080" cy="4939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1476360" y="4292640"/>
            <a:ext cx="1081080" cy="4935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5435640" y="4941720"/>
            <a:ext cx="2449440" cy="4939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2050920" y="5632560"/>
            <a:ext cx="2737080" cy="4935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6012000" y="5675400"/>
            <a:ext cx="1081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181080" y="885960"/>
            <a:ext cx="8781840" cy="54957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3492360" y="2205000"/>
            <a:ext cx="1150920" cy="4939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900000" y="5157720"/>
            <a:ext cx="7344000" cy="4939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826920" y="5805360"/>
            <a:ext cx="73440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8373" descr=""/>
          <p:cNvPicPr/>
          <p:nvPr/>
        </p:nvPicPr>
        <p:blipFill>
          <a:blip r:embed="rId1"/>
          <a:stretch/>
        </p:blipFill>
        <p:spPr>
          <a:xfrm>
            <a:off x="318960" y="1628640"/>
            <a:ext cx="8506080" cy="36007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755640" y="3860640"/>
            <a:ext cx="7632720" cy="4939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755640" y="4581360"/>
            <a:ext cx="7632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7352" descr=""/>
          <p:cNvPicPr/>
          <p:nvPr/>
        </p:nvPicPr>
        <p:blipFill>
          <a:blip r:embed="rId1"/>
          <a:stretch/>
        </p:blipFill>
        <p:spPr>
          <a:xfrm>
            <a:off x="304920" y="1319040"/>
            <a:ext cx="8534160" cy="42199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755640" y="3500280"/>
            <a:ext cx="7345440" cy="4939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755640" y="4221000"/>
            <a:ext cx="7345440" cy="493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900000" y="4883040"/>
            <a:ext cx="734544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6324" descr=""/>
          <p:cNvPicPr/>
          <p:nvPr/>
        </p:nvPicPr>
        <p:blipFill>
          <a:blip r:embed="rId1"/>
          <a:stretch/>
        </p:blipFill>
        <p:spPr>
          <a:xfrm>
            <a:off x="200160" y="739800"/>
            <a:ext cx="8743680" cy="58579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755640" y="4149720"/>
            <a:ext cx="7488360" cy="4935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684360" y="4797360"/>
            <a:ext cx="7488000" cy="4939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684360" y="5445000"/>
            <a:ext cx="7488000" cy="4939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5"/>
          <a:stretch/>
        </p:blipFill>
        <p:spPr>
          <a:xfrm>
            <a:off x="684360" y="6093000"/>
            <a:ext cx="81356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5300" descr=""/>
          <p:cNvPicPr/>
          <p:nvPr/>
        </p:nvPicPr>
        <p:blipFill>
          <a:blip r:embed="rId1"/>
          <a:stretch/>
        </p:blipFill>
        <p:spPr>
          <a:xfrm>
            <a:off x="185760" y="176040"/>
            <a:ext cx="8772480" cy="65059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755640" y="4221000"/>
            <a:ext cx="7272360" cy="4939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611280" y="4883040"/>
            <a:ext cx="7272360" cy="4939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684360" y="5504040"/>
            <a:ext cx="7272360" cy="4935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5"/>
          <a:stretch/>
        </p:blipFill>
        <p:spPr>
          <a:xfrm>
            <a:off x="539640" y="6165720"/>
            <a:ext cx="7272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4276" descr=""/>
          <p:cNvPicPr/>
          <p:nvPr/>
        </p:nvPicPr>
        <p:blipFill>
          <a:blip r:embed="rId1"/>
          <a:stretch/>
        </p:blipFill>
        <p:spPr>
          <a:xfrm>
            <a:off x="276120" y="1461960"/>
            <a:ext cx="859176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2231" descr=""/>
          <p:cNvPicPr/>
          <p:nvPr/>
        </p:nvPicPr>
        <p:blipFill>
          <a:blip r:embed="rId1"/>
          <a:stretch/>
        </p:blipFill>
        <p:spPr>
          <a:xfrm>
            <a:off x="366840" y="792000"/>
            <a:ext cx="8410320" cy="587700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755640" y="2852640"/>
            <a:ext cx="5761080" cy="4939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684360" y="3573360"/>
            <a:ext cx="5760720" cy="4939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682560" y="4148280"/>
            <a:ext cx="5761080" cy="4935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5"/>
          <a:stretch/>
        </p:blipFill>
        <p:spPr>
          <a:xfrm>
            <a:off x="611280" y="4869000"/>
            <a:ext cx="5761080" cy="49356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6"/>
          <a:stretch/>
        </p:blipFill>
        <p:spPr>
          <a:xfrm>
            <a:off x="539640" y="5416560"/>
            <a:ext cx="8207640" cy="4935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7"/>
          <a:stretch/>
        </p:blipFill>
        <p:spPr>
          <a:xfrm>
            <a:off x="468360" y="6137280"/>
            <a:ext cx="82072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7:47:14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